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wmf" ContentType="image/x-wmf"/>
  <Override PartName="/ppt/media/image7.wmf" ContentType="image/x-wmf"/>
  <Override PartName="/ppt/media/image8.png" ContentType="image/png"/>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762F-64CF-497C-B0EE-4BA44886F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0788-0389-4015-A2E6-4AECF06DE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8743-49F7-4F12-B784-A4F3541F4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0962F-5C22-4BA6-A766-3C157D42D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643FF-C921-427C-82EE-B994AFFB2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F1836-3D27-4498-B9B8-AE8CEE379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D8D20-6129-4D9A-B42F-B677A0FC6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1B6B3-168C-4261-97CC-A3694C8D7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7BD77-8723-42B0-9599-DF7F8738C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83073-7ABD-4E4A-9504-EBED729C8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0A6CD-4085-447A-AC62-7B5496532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A9A6D-4610-4C66-A50C-37461DC03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94588-ABCA-42C7-8B9C-079CCE28F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00B7E-148B-4E66-BD4F-647A16CE5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F0508-6309-434E-A3EA-ACE89617D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64FF2-1EA8-4185-B0F2-B9FFA0CE7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0F00A-092C-458C-99DC-03D376507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B7D05-9AA9-4743-9B58-4C56141D1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DC432-4B1F-43E9-9C67-1BD5B7C60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CA95B-8B14-4DAE-AD6E-14BD122EF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EC75BF8-927C-4326-8205-938A390A4B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F3B4BD-54EB-4CD1-9CE7-8ECA74C13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529DAB6-6D30-40A9-B51F-F54F10F860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ADCA56-A9F8-4AB3-ACF7-A7F9CCCF2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BE8B2F9-2761-46D7-921D-F26D2408C4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1F844-63DF-428D-B91C-E79768A3C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52DDE0-031E-4E76-A5AB-8A353F5176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E73EACA-24F4-4A04-B7A6-990E25D82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C4E382-4FB8-4F34-B5AC-EBFEA6D51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88EBD8-22C9-40C9-8F8A-581115D72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F2A365D-DEA0-4565-810A-25FC8FAE8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BC46766-24E1-4A03-9788-5432AEE5D3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46E6CB9-0A81-476D-A829-49D769F5D8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741B25C-50C5-49D1-872C-9F497C1F39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57AA08-0CAF-4727-9005-ADCE4D12E9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3883EAE-68EB-4AC9-BAC4-14B34F935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64F0A-4BD8-4021-B3FB-E23C8EE88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931A0B-8018-4BDF-BF64-3C22E04BD2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4A6D3D1-5D76-46D3-938D-97068803B5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76F9D6B-F313-4881-89EB-5F3DB1BF6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F271663-4D77-4C07-8C57-9DC2AA8FA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271672-B755-4810-A591-63A7C8E50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6BD21A-B372-4F64-89B5-C8C7EBA5E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56C7694-906E-4B29-9627-9776017A39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F7A964B-7E05-43E6-961E-FC085520D9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D65C49E-4A16-4158-ADAA-D8EBE5E35C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A85914B-FF95-4155-B6C9-D68C6AC9A4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EC6E8-7445-4BC9-BC3B-264DCF877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761468-4FAD-458E-B034-438335344E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A037EE7-EC11-447F-BEFB-7A75C6F1A1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F27B855-17E9-4DD4-868C-9C1D3E9E64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63B052-6782-425E-9672-57D7FAB2F4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2BAB42F-E971-45A8-8281-FDE580D682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B0E568-271E-4D45-BE0C-9CE6D70AC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0542C1-9B01-4FF3-AB71-AF0B207D2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CAEB56-47DB-4740-AEB8-35EB05BEE2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D0E193-1E5B-40D5-A27F-DEBFC1A5D9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0198E5C-AB4B-4989-A417-87632078CE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6A31B-489F-4775-ABA4-EFE9AA2A8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F078001-1339-4039-B902-0B749730F5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9F82BB-85C4-47FF-9854-8ECCE8C43B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9B775F-6E1A-4DAA-931D-B67CA3E9A4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7BA261-7916-4BEC-9CDC-CF0C4DB8F1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16679E-00AD-4116-A41F-86F637DE9D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2D0C8B-8F65-4D70-990B-9FA9CF5B24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CFD2B9-C6DF-44B0-A8F7-70983481B6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E4B52D-E73A-45CE-A357-3569476293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F4C440-9B1E-404A-84D4-A16FDCB8C9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B35B03-AF14-4FF8-AAC4-37D07DDC8B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C8DEE-2D9C-42D9-9E37-6D743BC3A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3CB68F-3564-4BEF-BEEB-BA87E43C95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4D796C-545B-436E-A48F-B62E08E14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A70FCF-D0AB-4311-AFCB-DC9F86A74A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FB28397-FF50-4F7F-AF84-ED08B831B4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5C2D918-6FA0-46B1-ACAE-3FB7E2595E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7098EB4-2003-43FA-A31A-682FF19E41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2240B9A-662E-4BCE-B951-DAD3CC3071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DB809B6-8CCF-4116-894C-78E8B0CD08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27EFE01-CD37-4CA2-A401-86F977AE0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88494E-7EB3-4902-A9FF-D1D6E56AE5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56513-0A02-40C2-A4F1-B9715298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1CC6D4-24B7-4BEE-BEE8-63F1B4663E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DCFB32-3F0C-4AB9-9A97-78294CCC68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200A83E-24A9-4DCE-9212-7D831591C3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5AB03DC-DF98-4636-837E-F0FBC3ED9D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136C75A-BED6-464D-A1A4-2A5375B7B1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65D7A8-4BF7-40E2-8B39-2789797DA3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A64136-643B-4E35-BFB5-B4A706CD23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A2F829-387A-4AC3-8D94-4016AA7237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A8BC84-9587-4DCF-840C-EA14D48D44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B39A3A-E386-443E-B7E0-2797486D54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87CD6-5E9E-45C0-B1D5-4848EFCD1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B526D2-FBEA-42DA-ABA3-F0121C2E1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47C37E-78A9-4086-99B5-CDE5B087A5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83666E-4540-4E9B-AAF7-37163F1517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BE4047-2DEE-4825-9D39-2ABFA76FD3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9DF2D4-865B-4763-9A26-4F8052D805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2F0CA8-3979-430B-970F-9B37609FC7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373A01-637A-42A3-8FF1-A01568FF079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E73B-0994-4555-8888-2D2B50CE5FD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4C51-7A3C-4109-B806-F8019EFB88E1}"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8352-BCB1-49CF-BBA8-68CB6AD45452}"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29E0-6D5A-42EF-AB13-78A6BCA56DB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6C30-6744-459E-8279-79830A07745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C370-69BE-44BA-9182-25DF216B9A33}"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0BC5-65F0-4A5D-B2E2-628FE461D37B}"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F0FB-83F5-4CBF-A78D-9D7AAFC69AC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roundrockisd.org/index.aspx?page=205" TargetMode="Externa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roundrockisd.org/Index.aspx?page=1008" TargetMode="Externa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dc3"/>
                </a:solidFill>
                <a:latin typeface="Tw Cen MT"/>
              </a:rPr>
              <a:t>CURRICULUM UPDATE</a:t>
            </a:r>
            <a:endParaRPr b="0" lang="en-US" sz="48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2009-2010</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4572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2009-10 Goals:</a:t>
            </a:r>
            <a:br>
              <a:rPr sz="4400"/>
            </a:b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Accelerate TAKS gains for economically disadvantaged, African American, and Hispanic students to reduce the achievement gap.</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Increase the percentage of underrepresented minority students enrolled in AP, Dual Credit, IB, and Algebra I (middle school) courses.</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Increase the graduation rate for economically disadvantaged, African American, and Hispanic students.</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 and re-administer the employee climate survey, and develop and implement a similar instrument to measure student morale and  school climate. </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ully implement the diversity training plan. </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vide adequate resources for instructional improvement. </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evelop a “profile” for each campus in the district to provide basic demographic, academic achievement, and facility data in a consistent   and easy to understand format. </a:t>
            </a:r>
            <a:endParaRPr b="0" lang="en-US" sz="20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61" name="Picture 2" descr="http://comps.fotosearch.com/bigcomps/CSP/CSP033/k0338901.jpg"/>
          <p:cNvPicPr/>
          <p:nvPr/>
        </p:nvPicPr>
        <p:blipFill>
          <a:blip r:embed="rId1"/>
          <a:stretch/>
        </p:blipFill>
        <p:spPr>
          <a:xfrm>
            <a:off x="4876920" y="0"/>
            <a:ext cx="3809880" cy="165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urriculum Update:</a:t>
            </a:r>
            <a:endParaRPr b="0" lang="en-US" sz="4400" spc="-1" strike="noStrike">
              <a:solidFill>
                <a:srgbClr val="775f55"/>
              </a:solidFill>
              <a:latin typeface="Tw Cen MT"/>
            </a:endParaRPr>
          </a:p>
        </p:txBody>
      </p:sp>
      <p:sp>
        <p:nvSpPr>
          <p:cNvPr id="363" name=""/>
          <p:cNvSpPr txBox="1"/>
          <p:nvPr/>
        </p:nvSpPr>
        <p:spPr>
          <a:xfrm>
            <a:off x="609120" y="1904760"/>
            <a:ext cx="8153640" cy="4190760"/>
          </a:xfrm>
          <a:prstGeom prst="rect">
            <a:avLst/>
          </a:prstGeom>
          <a:noFill/>
          <a:ln w="0">
            <a:noFill/>
          </a:ln>
        </p:spPr>
        <p:txBody>
          <a:bodyPr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ll At-a-Glance Maps and Recommended Instructional Timelines were reviewed/revised to reflect </a:t>
            </a:r>
            <a:r>
              <a:rPr b="1" lang="en-US" sz="2700" spc="-1" strike="noStrike">
                <a:solidFill>
                  <a:srgbClr val="000000"/>
                </a:solidFill>
                <a:latin typeface="Tw Cen MT"/>
              </a:rPr>
              <a:t>December end of the first semester</a:t>
            </a:r>
            <a:endParaRPr b="0" lang="en-US" sz="27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ll At-A-Glance Maps and Recommended Instructional Timelines were revised to align to the </a:t>
            </a:r>
            <a:r>
              <a:rPr b="1" lang="en-US" sz="2700" spc="-1" strike="noStrike">
                <a:solidFill>
                  <a:srgbClr val="000000"/>
                </a:solidFill>
                <a:latin typeface="Tw Cen MT"/>
              </a:rPr>
              <a:t>newly adopted English Language Arts/Reading TEKS</a:t>
            </a:r>
            <a:r>
              <a:rPr b="0" lang="en-US" sz="2700" spc="-1" strike="noStrike">
                <a:solidFill>
                  <a:srgbClr val="000000"/>
                </a:solidFill>
                <a:latin typeface="Tw Cen MT"/>
              </a:rPr>
              <a:t> – elementary and secondary</a:t>
            </a:r>
            <a:endParaRPr b="0" lang="en-US" sz="27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ll </a:t>
            </a:r>
            <a:r>
              <a:rPr b="1" lang="en-US" sz="2700" spc="-1" strike="noStrike">
                <a:solidFill>
                  <a:srgbClr val="000000"/>
                </a:solidFill>
                <a:latin typeface="Tw Cen MT"/>
              </a:rPr>
              <a:t>benchmarks</a:t>
            </a:r>
            <a:r>
              <a:rPr b="0" lang="en-US" sz="2700" spc="-1" strike="noStrike">
                <a:solidFill>
                  <a:srgbClr val="000000"/>
                </a:solidFill>
                <a:latin typeface="Tw Cen MT"/>
              </a:rPr>
              <a:t> were reviewed/revised to align to curriculum revisions</a:t>
            </a:r>
            <a:endParaRPr b="0" lang="en-US" sz="27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364" name="Picture 2" descr="C:\Documents\My Pictures\Microsoft Clip Organizer\j0425926.wmf"/>
          <p:cNvPicPr/>
          <p:nvPr/>
        </p:nvPicPr>
        <p:blipFill>
          <a:blip r:embed="rId1"/>
          <a:stretch/>
        </p:blipFill>
        <p:spPr>
          <a:xfrm>
            <a:off x="6324480" y="0"/>
            <a:ext cx="176544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urriculum Update continued…</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English Language Proficiency Standards </a:t>
            </a:r>
            <a:r>
              <a:rPr b="0" lang="en-US" sz="2900" spc="-1" strike="noStrike">
                <a:solidFill>
                  <a:srgbClr val="000000"/>
                </a:solidFill>
                <a:latin typeface="Tw Cen MT"/>
              </a:rPr>
              <a:t>(ELPS) were embedded in curriculum documents (</a:t>
            </a:r>
            <a:r>
              <a:rPr b="0" i="1" lang="en-US" sz="2900" spc="-1" strike="noStrike">
                <a:solidFill>
                  <a:srgbClr val="000000"/>
                </a:solidFill>
                <a:latin typeface="Tw Cen MT"/>
              </a:rPr>
              <a:t>Navigating the ELPs</a:t>
            </a:r>
            <a:r>
              <a:rPr b="0" lang="en-US" sz="2900" spc="-1" strike="noStrike">
                <a:solidFill>
                  <a:srgbClr val="000000"/>
                </a:solidFill>
                <a:latin typeface="Tw Cen MT"/>
              </a:rPr>
              <a:t>, Seidlitz)</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format for </a:t>
            </a:r>
            <a:r>
              <a:rPr b="1" lang="en-US" sz="2900" spc="-1" strike="noStrike">
                <a:solidFill>
                  <a:srgbClr val="000000"/>
                </a:solidFill>
                <a:latin typeface="Tw Cen MT"/>
              </a:rPr>
              <a:t>district assessment calendars</a:t>
            </a:r>
            <a:r>
              <a:rPr b="0" lang="en-US" sz="2900" spc="-1" strike="noStrike">
                <a:solidFill>
                  <a:srgbClr val="000000"/>
                </a:solidFill>
                <a:latin typeface="Tw Cen MT"/>
              </a:rPr>
              <a:t>:  </a:t>
            </a:r>
            <a:r>
              <a:rPr b="0" lang="en-US" sz="2400" spc="-1" strike="noStrike" u="sng">
                <a:solidFill>
                  <a:srgbClr val="f7b615"/>
                </a:solidFill>
                <a:uFillTx/>
                <a:latin typeface="Tw Cen MT"/>
                <a:hlinkClick r:id="rId1"/>
              </a:rPr>
              <a:t>https://www.roundrockisd.org/index.aspx?page=205</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lementary Assessment Calendar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ary Assessment Calenda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7" name="Picture 2" descr="C:\Documents\My Pictures\Microsoft Clip Organizer\j0432664.png"/>
          <p:cNvPicPr/>
          <p:nvPr/>
        </p:nvPicPr>
        <p:blipFill>
          <a:blip r:embed="rId2"/>
          <a:stretch/>
        </p:blipFill>
        <p:spPr>
          <a:xfrm>
            <a:off x="6629400" y="4572000"/>
            <a:ext cx="1714680" cy="1714680"/>
          </a:xfrm>
          <a:prstGeom prst="rect">
            <a:avLst/>
          </a:prstGeom>
          <a:ln w="0">
            <a:noFill/>
          </a:ln>
        </p:spPr>
      </p:pic>
      <p:pic>
        <p:nvPicPr>
          <p:cNvPr id="368" name="Picture 3" descr=""/>
          <p:cNvPicPr/>
          <p:nvPr/>
        </p:nvPicPr>
        <p:blipFill>
          <a:blip r:embed="rId3"/>
          <a:stretch/>
        </p:blipFill>
        <p:spPr>
          <a:xfrm>
            <a:off x="5562720" y="2514600"/>
            <a:ext cx="614160" cy="91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urriculum Management Tools / ARRC</a:t>
            </a:r>
            <a:endParaRPr b="0" lang="en-US" sz="40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Recommended Instructional Timelines </a:t>
            </a:r>
            <a:r>
              <a:rPr b="0" lang="en-US" sz="2900" spc="-1" strike="noStrike">
                <a:solidFill>
                  <a:srgbClr val="000000"/>
                </a:solidFill>
                <a:latin typeface="Tw Cen MT"/>
              </a:rPr>
              <a:t>are now available only through the password-protected ARRC / Curriculum Management Tool (CM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At-A-Glance Maps </a:t>
            </a:r>
            <a:r>
              <a:rPr b="0" lang="en-US" sz="2900" spc="-1" strike="noStrike">
                <a:solidFill>
                  <a:srgbClr val="000000"/>
                </a:solidFill>
                <a:latin typeface="Tw Cen MT"/>
              </a:rPr>
              <a:t>are still public accessible on the RRISD Curriculum Department/ARRC webpage: </a:t>
            </a:r>
            <a:r>
              <a:rPr b="0" lang="en-US" sz="2400" spc="-1" strike="noStrike" u="sng">
                <a:solidFill>
                  <a:srgbClr val="f7b615"/>
                </a:solidFill>
                <a:uFillTx/>
                <a:latin typeface="Tw Cen MT"/>
                <a:hlinkClick r:id="rId1"/>
              </a:rPr>
              <a:t>http://www.roundrockisd.org/Index.aspx?page=1008</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71" name="Picture 4" descr=""/>
          <p:cNvPicPr/>
          <p:nvPr/>
        </p:nvPicPr>
        <p:blipFill>
          <a:blip r:embed="rId2"/>
          <a:stretch/>
        </p:blipFill>
        <p:spPr>
          <a:xfrm>
            <a:off x="3657600" y="5029200"/>
            <a:ext cx="1523880" cy="15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380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urriculum Dept. Webpage</a:t>
            </a:r>
            <a:br>
              <a:rPr sz="4400"/>
            </a:br>
            <a:r>
              <a:rPr b="0" lang="en-US" sz="4400" spc="-1" strike="noStrike">
                <a:solidFill>
                  <a:srgbClr val="775f55"/>
                </a:solidFill>
                <a:latin typeface="Tw Cen MT"/>
              </a:rPr>
              <a:t> </a:t>
            </a:r>
            <a:r>
              <a:rPr b="0" lang="en-US" sz="2400" spc="-1" strike="noStrike">
                <a:solidFill>
                  <a:srgbClr val="775f55"/>
                </a:solidFill>
                <a:latin typeface="Tw Cen MT"/>
              </a:rPr>
              <a:t>http://www.roundrockisd.org/Index.aspx?page=1008 </a:t>
            </a:r>
            <a:br>
              <a:rPr sz="2400"/>
            </a:br>
            <a:endParaRPr b="0" lang="en-US" sz="2400" spc="-1" strike="noStrike">
              <a:solidFill>
                <a:srgbClr val="775f55"/>
              </a:solidFill>
              <a:latin typeface="Tw Cen MT"/>
            </a:endParaRPr>
          </a:p>
        </p:txBody>
      </p:sp>
      <p:sp>
        <p:nvSpPr>
          <p:cNvPr id="373" name="PlaceHolder 2"/>
          <p:cNvSpPr>
            <a:spLocks noGrp="1"/>
          </p:cNvSpPr>
          <p:nvPr>
            <p:ph/>
          </p:nvPr>
        </p:nvSpPr>
        <p:spPr>
          <a:xfrm>
            <a:off x="609120" y="1752480"/>
            <a:ext cx="1600200" cy="4724640"/>
          </a:xfrm>
          <a:prstGeom prst="rect">
            <a:avLst/>
          </a:prstGeom>
          <a:solidFill>
            <a:srgbClr val="dd8047"/>
          </a:solidFill>
          <a:ln cap="sq" w="50760">
            <a:solidFill>
              <a:srgbClr val="dd8047"/>
            </a:solidFill>
            <a:miter/>
          </a:ln>
        </p:spPr>
        <p:txBody>
          <a:bodyPr lIns="137160" rIns="137160" tIns="182880" bIns="91440" anchor="t">
            <a:normAutofit fontScale="92000"/>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t>
            </a:r>
            <a:r>
              <a:rPr b="0" lang="en-US" sz="1800" spc="-1" strike="noStrike">
                <a:solidFill>
                  <a:srgbClr val="ffffff"/>
                </a:solidFill>
                <a:latin typeface="Tw Cen MT"/>
              </a:rPr>
              <a:t>Employees”</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t>
            </a:r>
            <a:r>
              <a:rPr b="0" lang="en-US" sz="1800" spc="-1" strike="noStrike">
                <a:solidFill>
                  <a:srgbClr val="ffffff"/>
                </a:solidFill>
                <a:latin typeface="Tw Cen MT"/>
              </a:rPr>
              <a:t>Resources for  teachers”</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t>
            </a:r>
            <a:r>
              <a:rPr b="0" lang="en-US" sz="1800" spc="-1" strike="noStrike">
                <a:solidFill>
                  <a:srgbClr val="ffffff"/>
                </a:solidFill>
                <a:latin typeface="Tw Cen MT"/>
              </a:rPr>
              <a:t>ARRC”</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w Cen MT"/>
              </a:rPr>
              <a:t>OR</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t>
            </a:r>
            <a:r>
              <a:rPr b="0" lang="en-US" sz="1800" spc="-1" strike="noStrike">
                <a:solidFill>
                  <a:srgbClr val="ffffff"/>
                </a:solidFill>
                <a:latin typeface="Tw Cen MT"/>
              </a:rPr>
              <a:t>Departments”</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t>
            </a:r>
            <a:r>
              <a:rPr b="0" lang="en-US" sz="1800" spc="-1" strike="noStrike">
                <a:solidFill>
                  <a:srgbClr val="ffffff"/>
                </a:solidFill>
                <a:latin typeface="Tw Cen MT"/>
              </a:rPr>
              <a:t>Curriculum”</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Check out the ELA wiki and Math webpages!</a:t>
            </a:r>
            <a:endParaRPr b="0" lang="en-US" sz="1800" spc="-1" strike="noStrike">
              <a:solidFill>
                <a:srgbClr val="000000"/>
              </a:solidFill>
              <a:latin typeface="Tw Cen MT"/>
            </a:endParaRPr>
          </a:p>
        </p:txBody>
      </p:sp>
      <p:sp>
        <p:nvSpPr>
          <p:cNvPr id="374" name=""/>
          <p:cNvSpPr txBox="1"/>
          <p:nvPr/>
        </p:nvSpPr>
        <p:spPr>
          <a:xfrm>
            <a:off x="2362320" y="1752120"/>
            <a:ext cx="6400800" cy="441972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s New</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nchmark Manual</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 to Assessment Calendars</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esson Plan Templates</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MT login and information</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A-Glance Maps (yearly snapshots)</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tact Information for Curriculum Department team</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5" name="Picture 3" descr="C:\Documents and Settings\118burkes\Local Settings\Temporary Internet Files\Content.IE5\VC5TDSUI\MCj04414710000[1].png"/>
          <p:cNvPicPr/>
          <p:nvPr/>
        </p:nvPicPr>
        <p:blipFill>
          <a:blip r:embed="rId1"/>
          <a:stretch/>
        </p:blipFill>
        <p:spPr>
          <a:xfrm>
            <a:off x="6400800" y="12193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e careful what you wish for!</a:t>
            </a:r>
            <a:endParaRPr b="0" lang="en-US" sz="4400" spc="-1" strike="noStrike">
              <a:solidFill>
                <a:srgbClr val="775f55"/>
              </a:solidFill>
              <a:latin typeface="Tw Cen MT"/>
            </a:endParaRPr>
          </a:p>
        </p:txBody>
      </p:sp>
      <p:pic>
        <p:nvPicPr>
          <p:cNvPr id="377" name="Picture 2" descr=""/>
          <p:cNvPicPr/>
          <p:nvPr/>
        </p:nvPicPr>
        <p:blipFill>
          <a:blip r:embed="rId1"/>
          <a:stretch/>
        </p:blipFill>
        <p:spPr>
          <a:xfrm>
            <a:off x="3048120" y="2362320"/>
            <a:ext cx="3124080" cy="3124080"/>
          </a:xfrm>
          <a:prstGeom prst="rect">
            <a:avLst/>
          </a:prstGeom>
          <a:ln w="0">
            <a:noFill/>
          </a:ln>
        </p:spPr>
      </p:pic>
      <p:sp>
        <p:nvSpPr>
          <p:cNvPr id="378" name="TextBox 3"/>
          <p:cNvSpPr/>
          <p:nvPr/>
        </p:nvSpPr>
        <p:spPr>
          <a:xfrm>
            <a:off x="685800" y="5638680"/>
            <a:ext cx="815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nd of Course Exams are coming in 2011-2012!</a:t>
            </a:r>
            <a:endParaRPr b="0" lang="en-US" sz="2800" spc="-1" strike="noStrike">
              <a:solidFill>
                <a:srgbClr val="000000"/>
              </a:solidFill>
              <a:latin typeface="Arial"/>
            </a:endParaRPr>
          </a:p>
        </p:txBody>
      </p:sp>
      <p:sp>
        <p:nvSpPr>
          <p:cNvPr id="379" name="TextBox 3"/>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AKS is going away, b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RISD Community of Learners</a:t>
            </a:r>
            <a:endParaRPr b="0" lang="en-US" sz="4400" spc="-1" strike="noStrike">
              <a:solidFill>
                <a:srgbClr val="775f55"/>
              </a:solidFill>
              <a:latin typeface="Tw Cen MT"/>
            </a:endParaRPr>
          </a:p>
        </p:txBody>
      </p:sp>
      <p:pic>
        <p:nvPicPr>
          <p:cNvPr id="381" name="Picture 2" descr=""/>
          <p:cNvPicPr/>
          <p:nvPr/>
        </p:nvPicPr>
        <p:blipFill>
          <a:blip r:embed="rId1"/>
          <a:stretch/>
        </p:blipFill>
        <p:spPr>
          <a:xfrm>
            <a:off x="685800" y="2057400"/>
            <a:ext cx="2666880" cy="3568680"/>
          </a:xfrm>
          <a:prstGeom prst="rect">
            <a:avLst/>
          </a:prstGeom>
          <a:ln w="0">
            <a:noFill/>
          </a:ln>
        </p:spPr>
      </p:pic>
      <p:sp>
        <p:nvSpPr>
          <p:cNvPr id="382" name="TextBox 3"/>
          <p:cNvSpPr/>
          <p:nvPr/>
        </p:nvSpPr>
        <p:spPr>
          <a:xfrm>
            <a:off x="3962520" y="2286000"/>
            <a:ext cx="4724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urriculum, Bilingual/ES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Fine Arts and Special Ed team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structional Technology Specialis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cademic Dean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ach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incipal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eachers</a:t>
            </a:r>
            <a:endParaRPr b="0" lang="en-US" sz="2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Stud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To close existing achievement gaps…</a:t>
            </a:r>
            <a:endParaRPr b="0" lang="en-US" sz="4000" spc="-1" strike="noStrike">
              <a:solidFill>
                <a:srgbClr val="775f55"/>
              </a:solidFill>
              <a:latin typeface="Tw Cen MT"/>
            </a:endParaRPr>
          </a:p>
        </p:txBody>
      </p:sp>
      <p:sp>
        <p:nvSpPr>
          <p:cNvPr id="384"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RRC -- </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Aligned </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Round</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Rock </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urriculum</a:t>
            </a:r>
            <a:endParaRPr b="0" lang="en-US" sz="1800" spc="-1" strike="noStrike">
              <a:solidFill>
                <a:srgbClr val="000000"/>
              </a:solidFill>
              <a:latin typeface="Tw Cen MT"/>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5" name=""/>
          <p:cNvSpPr txBox="1"/>
          <p:nvPr/>
        </p:nvSpPr>
        <p:spPr>
          <a:xfrm>
            <a:off x="2362320" y="1752120"/>
            <a:ext cx="6400800" cy="49532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a:r>
            <a:r>
              <a:rPr b="0" lang="en-US" sz="2400" spc="-1" strike="noStrike">
                <a:solidFill>
                  <a:srgbClr val="000000"/>
                </a:solidFill>
                <a:latin typeface="Tw Cen MT"/>
              </a:rPr>
              <a:t>Teachers are required to use the District curriculum and instruction guides as their primary source of instructional direction. The principal shall ensure that optimum use is made of available written curriculum materials and instructional time.” (EG Local Policy)</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6" name="Picture 2" descr="http://comps.fotosearch.com/bigcomps/CSP/CSP033/k0338901.jpg"/>
          <p:cNvPicPr/>
          <p:nvPr/>
        </p:nvPicPr>
        <p:blipFill>
          <a:blip r:embed="rId1"/>
          <a:stretch/>
        </p:blipFill>
        <p:spPr>
          <a:xfrm>
            <a:off x="3276720" y="4267080"/>
            <a:ext cx="438948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19:36:44Z</dcterms:created>
  <dc:creator>118burkes</dc:creator>
  <dc:description/>
  <dc:language>en-US</dc:language>
  <cp:lastModifiedBy>owend</cp:lastModifiedBy>
  <dcterms:modified xsi:type="dcterms:W3CDTF">2009-09-19T17:31:30Z</dcterms:modified>
  <cp:revision>10</cp:revision>
  <dc:subject/>
  <dc:title>Curriculum Update</dc:title>
</cp:coreProperties>
</file>